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3C0A-7268-4B9E-BBA2-7CEA38BEEE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AE02-86EB-4EEE-ACCF-60BFFE34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DEB2-F642-4744-BB34-9A2EE04C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2C1B-D2DA-4D02-82EF-049CCE6B5C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F1DF-C979-4996-830E-798EDF8A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E54B-517E-4324-8F47-B9B18523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5164-25EB-4E06-ACD3-34FE1F41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4434-FEDB-4924-BAAB-D133022F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96B7-01F3-48C0-AEBE-D0B05AAF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D2474-7A2E-4FDF-983F-136A7178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D105-36C3-431C-BA13-5C4B9067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62FB-15C8-4C4B-B6B6-DEF6F230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5ED3-AE71-4FF8-942A-362D46E1AA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隶书"/>
              </a:rPr>
              <a:t>抗癫痫药和抗惊厥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969696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Antiepilepsy Drugs and Anticonvuls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755640" y="2276640"/>
            <a:ext cx="755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癫痫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苯妥英钠是治疗癫痫强直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阵挛性发作（癫痫大发作）和局限性发作的首选药物。对精神运动发作亦有效，对失神小发作无效。静脉注射可治疗癫痫持续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治疗外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对三叉神经痛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坐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效，服药后疼痛减轻。该作用与稳定神经细胞膜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心律失常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见第二十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322640" y="1556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【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临床应用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826920" y="198900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呈碱性，口服后在消化道吸收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用于癫痫持续状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血浆蛋白结合率高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85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肝代谢，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原形由肾排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半衰期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-2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，常规服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，可达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态血药浓度，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11680" y="1700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11280" y="1268280"/>
            <a:ext cx="51051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和药疗监护须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11280" y="2133720"/>
            <a:ext cx="7924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恶心、呕吐、食欲缺乏、胃痛等。饭后服药，或以大量水送服可减轻反应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齿龈增生：长期应用能使齿龈增生，发生率约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0%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此反应与部分药物从唾液排出，刺激胶原组织增生有关。注意口腔卫生可减轻此反应，经常按摩齿龈，可避免齿龈增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1" name="Picture 5" descr="20063815421111"/>
          <p:cNvPicPr/>
          <p:nvPr/>
        </p:nvPicPr>
        <p:blipFill>
          <a:blip r:embed="rId1"/>
          <a:stretch/>
        </p:blipFill>
        <p:spPr>
          <a:xfrm>
            <a:off x="4859280" y="4508640"/>
            <a:ext cx="2743200" cy="1896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10414874_432706"/>
          <p:cNvPicPr/>
          <p:nvPr/>
        </p:nvPicPr>
        <p:blipFill>
          <a:blip r:embed="rId2"/>
          <a:stretch/>
        </p:blipFill>
        <p:spPr>
          <a:xfrm>
            <a:off x="1763640" y="4508640"/>
            <a:ext cx="2795760" cy="1768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神经系统反应：较多见为头晕，剂量过大时出现眼球震颤、复视、发音障碍、共济失调。严重时可致精神错乱。调整剂量或停药后可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对造血系统的影响：长期用药可能因影响叶酸吸收和代谢而致巨幼细胞性贫血，也可引起粒细胞、血小板减少。罕见再生障碍性贫血。可用叶酸加维生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2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防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9640" y="1413000"/>
            <a:ext cx="5688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7620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过敏反应：皮疹常见。偶见剥脱性皮炎、系统性红斑狼疮，一旦出现这些反应，应立即停药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反应：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偶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致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孕妇忌用。 本品为肝药酶诱导剂，可加速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代谢失活，引起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，而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软骨病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故需同时服用钙剂和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内分泌功能的影响可引起男性乳房增大、女性多毛症，故青少年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9640" y="1628640"/>
            <a:ext cx="568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204200" y="155736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药物相互作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11280" y="2349360"/>
            <a:ext cx="761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与苯妥英钠竞争血浆蛋白结合部位的药物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丙戊酸钠、保泰松、磺胺类药物、水杨酸类、苯二氮卓类、口服抗凝血药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抑制剂能提高苯妥英钠的血浓度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氯霉素、异烟肼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诱导剂可加速苯妥英钠的代谢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苯巴比妥、卡马西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本身具有肝药酶诱导作用，能加速皮质类固醇、避孕药等的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284640"/>
            <a:ext cx="769608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既能抑制病灶异常放电，又能限制异常放电的扩散。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对强直阵挛性发作、单纯部分性发作、发热惊厥、癫痫持续状态均有预防及治疗作用。对复杂部分性发作往往无效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87280" y="1844640"/>
            <a:ext cx="6481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苯巴比妥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phenobarbita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87280" y="2133720"/>
            <a:ext cx="547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鲁米那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lumina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11280" y="1700280"/>
            <a:ext cx="806436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呈弱酸性，难溶于水，口服吸收完全。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5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血浆蛋白结合。苯巴比妥部分被代谢，部分以原形从尿中排出。血药浓度与剂量有密切关系，长期用药后血浆和脑中药物浓度相似，并保持稳定，</a:t>
            </a:r>
            <a:r>
              <a:rPr b="1" i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。有效治疗浓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中毒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04000" y="40464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神经毒性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:①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本药最常见的反应为嗜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兴奋多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③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眼球震颤，发音障碍及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④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学习能力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⑤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停药反应：情绪不稳、嗜睡、震颤、出汗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精神错乱、癫痫发作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液系统：可致巨幼细胞贫血及凝血障碍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查血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少数病人有过敏反应：如皮疹、黄疸、高热、粒细胞缺乏、剥脱性皮炎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停药</a:t>
            </a:r>
            <a:r>
              <a:rPr b="1" lang="zh-CN" sz="24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骨骼肌：可致骨软化及佝偻病等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补充钙片及维生素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对有严重的心、肺、肝、肾疾病的患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04000" y="33336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可加强其他药物如抗组胺药、镇痛药、麻醉药及其他镇静催眠药等的中枢抑制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是肝药酶的诱导剂，使许多药代谢加快，血浓度减少，如双香豆素、苯妥英钠，保泰松、氯丙嗪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丙戊酸钠、双硫醒、卡马西平和单胺氧化酶制剂可抑制苯巴比妥的代谢，使后者血浓度升高，延长药物作用，甚至产生中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732720" y="333360"/>
            <a:ext cx="20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000" y="134100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妥英钠、丙戊酸钠、乙琥胺、卡马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、苯巴比妥等抗癫痫作用特点、临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及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惊厥药硫酸镁药理作用、作用机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的发病机理及其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类抗癫痫药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癫痫药的临床应用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硫酸镁的不良反应和中毒的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95280" y="1916280"/>
            <a:ext cx="7993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去氧苯巴比妥、麦苏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扑米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在体内代谢转化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巴比妥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乙基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酰胺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药物原型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个代谢产物均有抗癫痫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用。疗效较高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一次给药后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血药浓度达高峰。半衰期约为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±6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小时，血内浓度达到稳定状态的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间约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强直阵挛性发作、单纯及复杂部分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90920" y="13716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050920" y="12682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扑米酮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primido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15564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能提高脑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水平。主要用于小发作，特别是失神小发作，对肌阵挛及婴儿痉挛也有一些效果。对强直性阵挛性发作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完全，达高峰浓度时间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在组织内均匀分布，但在脂肪组织内较少。乙琥胺在血浆内与蛋白结合极少，脑脊液内浓度与血浆浓度相似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量以原型由尿排出，其余以代谢物形式排出。成人半衰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儿童平均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血浓度达稳态浓度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0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m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082560" y="404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247480" y="112536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958760" y="126828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900000" y="1628640"/>
            <a:ext cx="72392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较安全，不良反应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胃肠道反应最常见，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为中枢神经症状，有头晕、乏力、嗜睡、欣快、幻觉及注意力下降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偶有造血功能障碍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8129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114640" y="134136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755640" y="206064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氨甲酰氮 、酰胺咪嗪，商品名：得理多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egreta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是亚氨基二苯乙烯的衍生物，作用机制尚未明确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可能与其抑制海马、网状结构、下丘脑和杏仁核的异常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放电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抗癫痫作用较广谱。最适合治疗复杂部分性发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，也可用于对其它药无效的强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阵挛性发作及各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部分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三叉神经痛的效果优于苯妥英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取代苯妥英钠趋势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9623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755640" y="2133720"/>
            <a:ext cx="74883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卡马西平口服吸收不完全。服药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到最高峰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。脑中浓度与血浆中的浓度相等或后者稍高。半衰期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血浓度达到稳态浓度的时间需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约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以原型从尿中排出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041920" y="141300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5962320" y="40464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825920" y="126828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68360" y="205632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神经系统：头晕、嗜睡、视力模糊、复视或平衡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共济失调，停药后可消失。老年人易出现精神症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 需注意观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血液系统：偶见粒细胞减少或增多、血小板减少、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障碍性贫血。查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胃肠道症状：食欲缺乏、  恶心及呕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皮肤反应：皮疹，一般不需停药。剥脱性皮炎较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见， 一旦发生需停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：有报道服用卡马西平可引起水中毒。本药对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致畸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110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116000" y="2133720"/>
            <a:ext cx="720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癫痫灵，商品名：德巴金。早年作有机溶剂用，后发现其本身即具有抗惊厥作用，而且对大多数动物惊厥模型都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2556000" y="4221000"/>
            <a:ext cx="3952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1894680" y="1197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84360" y="1773360"/>
            <a:ext cx="7775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抑制病灶放电，但能阻止病灶异常放电的扩散。主要是竞争性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γ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氨基丁酸转氨酶的活性，从而提高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的浓度。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脱羧酶              转氨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谷氨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GAB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琥珀酸半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丙戊酸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广谱抗癫痫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各种类型癫痫均有不同程度疗效。它是大发作合并小发作时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首选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对其他药物未能控制的顽固性癫痫亦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79376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987640" y="4076640"/>
            <a:ext cx="86364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5003640" y="4076640"/>
            <a:ext cx="115272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快，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高峰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，在肝代谢，由尿排出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/2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达到稳态血药浓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0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μ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5003280" y="333000"/>
            <a:ext cx="374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894680" y="148428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755640" y="2205000"/>
            <a:ext cx="770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用药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胃肠道反应：食欲缺乏、恶心、呕吐等。饭后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体重增加：原因不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血液系统：可见血小板减少和功能异常报道。定期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小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肝毒性：可使转氨酶升高。定期查肝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致畸形：特别是脊柱裂的发生与丙戊酸钠服用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妊娠早期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共济失调时注意搀扶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067280" y="333360"/>
            <a:ext cx="49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894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0360" y="304560"/>
            <a:ext cx="441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抗癫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俗称羊角风，是由于大脑局部病灶神经元突发性的异常高频放电，并向周围正常脑组织扩散，引起的大脑功能短暂失调的临床综合征。其发作具有突然性、短暂性、反复性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突然发作，意识丧失，跌倒在地，肢体阵挛性抽搐，运动感觉意识、植物神经、精神等障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并伴有异常脑电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5796000" y="4221000"/>
            <a:ext cx="274320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自画图"/>
          <p:cNvPicPr/>
          <p:nvPr/>
        </p:nvPicPr>
        <p:blipFill>
          <a:blip r:embed="rId2"/>
          <a:stretch/>
        </p:blipFill>
        <p:spPr>
          <a:xfrm>
            <a:off x="1547640" y="4508640"/>
            <a:ext cx="2167200" cy="1995480"/>
          </a:xfrm>
          <a:prstGeom prst="rect">
            <a:avLst/>
          </a:prstGeom>
          <a:ln w="0">
            <a:noFill/>
          </a:ln>
        </p:spPr>
      </p:pic>
      <p:sp>
        <p:nvSpPr>
          <p:cNvPr id="112" name="Line 7"/>
          <p:cNvSpPr/>
          <p:nvPr/>
        </p:nvSpPr>
        <p:spPr>
          <a:xfrm flipV="1">
            <a:off x="3203640" y="4869000"/>
            <a:ext cx="792000" cy="72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45480" y="46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正常脑细</a:t>
            </a:r>
            <a:r>
              <a:rPr b="1" lang="zh-CN" sz="18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700360" y="5445000"/>
            <a:ext cx="1800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471920" y="5237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病灶</a:t>
            </a:r>
            <a:r>
              <a:rPr b="1" lang="zh-CN" sz="20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2700360" y="5877000"/>
            <a:ext cx="1511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54720" y="5722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异常高频放电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3549960" y="1149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苯二氮卓类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11280" y="1844640"/>
            <a:ext cx="8001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隶书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是治疗癫痫持续状态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首选药物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显效快、较其他药物安全的优点。静注偶致呼吸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主要用于肌阵挛性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氯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可用于各型癫痫，尤其用于小发作，静脉注射也用于治疗癫痫持续状态。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对肌阵挛发作、失神发作，对部分性发作和强直阵挛性发作也有效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110200" y="333360"/>
            <a:ext cx="4033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托吡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opiram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激活性钠通道，提高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激活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受体及拮抗谷氨酸受体亚型而起到抗癫痫作用。主要用于部分性发作、继发性全面发作、婴儿痉挛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莫三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lamotrig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依赖性钠通道，稳定突触前膜起到抗癫痫作用。对各种类型发作均有效，尤其对失神发作，不典型失神发作以及失张力发作疗效最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932360" y="333360"/>
            <a:ext cx="49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276920" y="1868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抗癫痫药应用注意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4"/>
          <p:cNvSpPr/>
          <p:nvPr/>
        </p:nvSpPr>
        <p:spPr>
          <a:xfrm>
            <a:off x="5398920" y="333360"/>
            <a:ext cx="3745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5"/>
          <p:cNvSpPr/>
          <p:nvPr/>
        </p:nvSpPr>
        <p:spPr>
          <a:xfrm>
            <a:off x="611280" y="2565360"/>
            <a:ext cx="77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根据发作类型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是否联合用药？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性癫痫最好选用一种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药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长期用药不得突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随意换药，过渡式换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!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定期查血象、肝肾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可能致畸、死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532520" y="162864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抗惊厥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anticonvulsion drugs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4360" y="234936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惊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convuls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由各种原因（高热、子痫、破伤风、癫痫大发作及某些药物中毒等）引起的中枢神经系统过度兴奋的一种症状，表现为全身骨骼肌不自主的强烈收缩，呈强直性或阵挛性抽搐，为一临床急症，需紧急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常用药物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巴比妥类、苯二氮卓类、水合氯醛、硫酸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740400" y="98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第二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2257560" y="1268280"/>
            <a:ext cx="46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826920" y="2133720"/>
            <a:ext cx="7608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给药途径不同，作用性质、用途不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口服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下泻、利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泻药（驱虫、排毒），十二指肠胆汁引流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惊厥、降压、 中枢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子痫（首选）、破伤风等引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惊厥及高血压危象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局部外用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0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高渗溶液湿敷消炎消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8932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79280" y="1638360"/>
            <a:ext cx="8425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及临床应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0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镁为机体生活必需元素之一，在神经冲动的传递和神经肌肉应激性的维持方面均有重要作用。血浆中的镁离子低于正常水平，则出现神经及肌肉组织兴奋性升高。体内镁离子与钙离子化学性质相似，但作用相互拮抗。镁离子是通过拮抗钙离子而发挥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给药可引起中枢抑制及骨骼肌松弛，可以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子痫、破伤风等惊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浓度镁离子对心肌有抑制及扩张外周血管作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降低血压，用于治疗高血压危象和高血压脑病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06096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765440" y="105264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684360" y="2637000"/>
            <a:ext cx="712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　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速度过快或过量致血镁过高，抑制呼吸中枢和血管运动中枢，引起呼吸抑制、血压剧降和心脏停跳而死亡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腱反射消失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常为呼吸抑制的先兆，因此，连续用药时应经常检查腱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毒解救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钙剂， 缓慢静脉注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336320" y="191628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91804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693800" y="119700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癫痫发作时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EEG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异常改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50920" y="3232080"/>
            <a:ext cx="15112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小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H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1628640"/>
            <a:ext cx="15130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棘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08000" y="4797360"/>
            <a:ext cx="2087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精神运动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7" descr="图片1_副本"/>
          <p:cNvPicPr/>
          <p:nvPr/>
        </p:nvPicPr>
        <p:blipFill>
          <a:blip r:embed="rId1"/>
          <a:stretch/>
        </p:blipFill>
        <p:spPr>
          <a:xfrm>
            <a:off x="2195640" y="1341360"/>
            <a:ext cx="65530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原发性癫痫，又称真性或特发性癫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继发性癫痫，又称症状性癫痫，由于各种脑部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损和代谢障碍所致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135760" y="26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癫痫的分类及临床表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3068640"/>
          <a:ext cx="8353440" cy="3852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隶书"/>
                          <a:ea typeface="隶书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分型                  临床特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3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隶书"/>
                        </a:rPr>
                        <a:t>部分性发作：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单纯部分性发作   局部肢体运动或感觉异常，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无意识障碍 （局限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精神运动性发作   出现意识障碍和精神症状 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等（复杂部分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3924360" y="33336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癫痫的分类及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324000" y="242100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全面性发作：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失神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典型发作或不典型发作，       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突然知觉丧失，动作中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强直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阵挛发作       全身阵挛性抽搐，意识丧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癫痫持续状态    大发作持续状态，反复抽搐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持续昏迷，不及时解救危及生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971640" y="1773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型                      临床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39"/>
          <p:cNvSpPr/>
          <p:nvPr/>
        </p:nvSpPr>
        <p:spPr>
          <a:xfrm>
            <a:off x="395280" y="1773360"/>
            <a:ext cx="792000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40"/>
          <p:cNvSpPr/>
          <p:nvPr/>
        </p:nvSpPr>
        <p:spPr>
          <a:xfrm>
            <a:off x="324000" y="2421000"/>
            <a:ext cx="7993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41"/>
          <p:cNvSpPr/>
          <p:nvPr/>
        </p:nvSpPr>
        <p:spPr>
          <a:xfrm>
            <a:off x="395280" y="5805360"/>
            <a:ext cx="8209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5322960" y="333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抗癫痫药物的作用方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403280" y="4221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药物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995640" y="3573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抑制放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995640" y="4437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稳定膜、抑制放电扩散（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要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3059280" y="3933720"/>
            <a:ext cx="761760" cy="5335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3059280" y="4581360"/>
            <a:ext cx="838080" cy="3812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55280" y="5661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用药目的：减少或防止发作。需长期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11" descr="自画图"/>
          <p:cNvPicPr/>
          <p:nvPr/>
        </p:nvPicPr>
        <p:blipFill>
          <a:blip r:embed="rId1"/>
          <a:stretch/>
        </p:blipFill>
        <p:spPr>
          <a:xfrm>
            <a:off x="1042920" y="1268280"/>
            <a:ext cx="2671920" cy="2460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2"/>
          <p:cNvSpPr/>
          <p:nvPr/>
        </p:nvSpPr>
        <p:spPr>
          <a:xfrm>
            <a:off x="4211640" y="162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脑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276720" y="184464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211640" y="2205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病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2556000" y="2421000"/>
            <a:ext cx="16002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140360" y="26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异常高频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2843280" y="2924280"/>
            <a:ext cx="1292040" cy="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086560" y="177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403280" y="2852640"/>
            <a:ext cx="6400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大仑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dilantin)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为二苯乙内酰脲的钠盐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0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合成，开始作为镇静催眠药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3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发现具有抗癫痫作用，是目前常用的抗癫痫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1624320" y="177336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和作用机制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066680" y="2514600"/>
            <a:ext cx="6890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妥英钠通过稳定神经细胞膜，降低细胞膜对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通透性，抑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内流，从而降低了细胞膜的兴奋性，阻止癫痫病灶异常放电向周围正常脑组织扩散，而不是直接抑制病灶局部的高频放电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381840" y="360360"/>
            <a:ext cx="49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苯妥英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6:21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